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86562-DEF0-4E6A-97EC-4CAF8E46C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9DFA0-BF45-4B1E-8504-E5460EC0C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3A65C-CE8A-4B7A-875F-8EC1423F8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EDD0D-F343-4BD4-B175-F754A2C51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CADA8-F491-4664-B6D9-7E979159D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6A2D1-B9E6-42AB-92A6-BDB1216A5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0CD07-5DE1-4476-BD17-AFE1D89DD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DB4A0-31E6-4610-AAFF-73DD032F1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0C723-C4CF-4F25-B05B-CFD802F7C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E2F9E-32B3-4A16-A6C4-A418C9AFF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F8EDD-9A8E-4BCE-9AEC-5BA50569D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2A7B0-A201-4CDB-85D3-7014D64D2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73865-7650-4824-B580-FB264C362B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38080" y="2514600"/>
            <a:ext cx="762012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762120"/>
            <a:ext cx="7620120" cy="18288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066680" y="838080"/>
            <a:ext cx="716292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Playbill"/>
              </a:rPr>
              <a:t>WinOdEan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Playbill"/>
              <a:ea typeface="Playbill"/>
            </a:endParaRPr>
          </a:p>
        </p:txBody>
      </p:sp>
      <p:sp>
        <p:nvSpPr>
          <p:cNvPr id="46" name=""/>
          <p:cNvSpPr/>
          <p:nvPr/>
        </p:nvSpPr>
        <p:spPr>
          <a:xfrm>
            <a:off x="990720" y="259092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Windo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90720" y="3124080"/>
            <a:ext cx="739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 Extra Bold"/>
              </a:rPr>
              <a:t>Optimiz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90720" y="373392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Data En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38080" y="4343400"/>
            <a:ext cx="7620120" cy="182880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4724280"/>
            <a:ext cx="7543800" cy="9234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etter Gothic"/>
              </a:rPr>
              <a:t>Affinity 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e-mail: affinity@vsnl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24T08:44:49Z</dcterms:created>
  <dc:creator>OPEY A.</dc:creator>
  <dc:description/>
  <dc:language>en-US</dc:language>
  <cp:lastModifiedBy>OPEY A.</cp:lastModifiedBy>
  <dcterms:modified xsi:type="dcterms:W3CDTF">1999-12-27T13:44:17Z</dcterms:modified>
  <cp:revision>12</cp:revision>
  <dc:subject/>
  <dc:title>No Slide Title</dc:title>
</cp:coreProperties>
</file>